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A83-5A2F-4604-BEBE-D8716762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4018-D710-498A-82B4-D73357C0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B285-160D-4E62-8FDA-44D25A5B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829A-06EC-4C74-867B-545F1069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6F7C-E673-4BD6-A2FE-408970DD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82D2-6512-4821-AD26-825F2D49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3BD4-8730-44D6-B7C5-0ACE72E5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4CE7-E9B7-4071-89CF-03391A62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3CA1-CBE6-4652-866A-A70599B1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BF4C-5392-4565-B2B8-FAD03747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138D-953B-4F73-8A08-035314EE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EB0A-08D7-4440-91C7-537CA7F4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24E0-F037-4C82-9CEF-586A1884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D46D-5E6C-4FD1-A967-B1C152BC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15C9-BD06-4822-A1BA-ABD7BEB3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84B1-C1B5-4441-B1B9-12854E1E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1281-4D04-42F4-9963-079F652B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55F-71DA-4FA1-8FEE-71808CCB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285-1534-461C-A8BC-683457B1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994-E423-4AA0-9FF5-39F523CE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C0C-7DB9-44C8-8FEB-66F7A544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7BC-65EC-4E01-AAB6-C5FBA1C7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9211-71C7-4A92-93C8-12A7613A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70E-7C62-4FB4-A806-1EE8AB5E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99ff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ff33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99ff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57A6-AD48-4EA4-9508-2F83E5B461B9}" type="slidenum"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cc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99ff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ff33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99ff3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99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99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99ff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692F-3393-4CF2-B05D-7BC97B1DC357}" type="slidenum">
              <a:rPr b="0" lang="en-US" sz="14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Salt vs Sugar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Shelby Schroeder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Resul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onclusion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ajor Observation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ossible Causes of Erro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Further Research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ime Spent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All science fair workdays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cknowledgements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Clayton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Holly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Emma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Jessica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Max 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Edward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Shelbi 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Sydney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Kaci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Mrs. Riffel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How well can people tell the difference between salt and sugar crystals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7621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 Black"/>
              </a:rPr>
              <a:t>Problem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Salt and sugar look alike, but what if they are crystallized? Is there anyway to tell the difference (in the crystals) without tasting them? 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Background Info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Salt comes from underground mines.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Sugar comes from plants called cane sugar.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Too much of both is very bad for a persons body.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Sugar is sweet and salt is bitter.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Hypothe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I predict people will be able to tell the difference between sugar and salt crystal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8120" y="380880"/>
            <a:ext cx="30477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ateria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2 cup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2 pieces of string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2 paperclip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Sugar 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Salt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ater 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A sunny plac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Microscope 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Peopl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352680" y="304560"/>
            <a:ext cx="2286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eopl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Clayton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Holly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Emma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Jessica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Max 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Edward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Shelbi 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Sydney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Kaci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742840" y="456840"/>
            <a:ext cx="3429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rocedur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I will place the sugar and salt crystal making tools in a sunny place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Sugar and salt crystals will grow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People will describe what each is like to me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They will see if they can tell the difference between the two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Variabl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Independent: gender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Dependent: if they could tell the differenc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Controlled: crystal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7:10:06Z</dcterms:created>
  <dc:creator>USD376</dc:creator>
  <dc:description/>
  <dc:language>en-US</dc:language>
  <cp:lastModifiedBy>USD376</cp:lastModifiedBy>
  <dcterms:modified xsi:type="dcterms:W3CDTF">2012-03-06T17:14:34Z</dcterms:modified>
  <cp:revision>12</cp:revision>
  <dc:subject/>
  <dc:title>Can People Actually Tell if its More Expensive?</dc:title>
</cp:coreProperties>
</file>